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911-D7BE-49DA-9EA4-5B08A2EF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51C-C6AE-45E8-A5AC-B9C9A313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372-80AB-4FB0-B1EB-C1039A58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FFA-7E62-43EB-B093-FB2400C2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F586-DFEF-42BE-979C-09FE2C55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2E42-C3FB-4EB7-A1A8-94F28D2A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1FDA-C61F-4C54-8B75-281D62CA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1DCD-B1FC-44D1-AF39-B2CE0CB6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D77A-9655-47C1-963B-7ADBC509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C182-0BCC-4DEB-A7F2-181AF90C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8C53-C602-47ED-A583-43B554D0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62C-1C0D-4160-B07C-37EF7042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6715-A83B-403D-B57B-5C35BF22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75CE-3719-4D52-88B8-4B02CEF0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2269-B9DF-423A-8FC1-56D54942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1275-760F-46A3-BA1A-1ED7B048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561C-F60F-43BB-8054-35EC36F3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7A4-FD8A-452A-BE90-F6DB90E8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7A85-044E-49C4-B53B-89E6A25A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E69A-E932-41CC-8D43-5DC4D539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CDC97-0389-4A60-8D96-6A27467F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637-428F-4241-81ED-2C24B287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A561-F936-4E85-8C24-EFF26282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D18D-0FAC-4E92-942C-C1F0155C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12B5-6533-43A6-8DCD-D4CBBF81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9EA7-4FFD-451B-9E95-33487FCF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F422-FCB0-4EEE-BE12-A44974F1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245D-6E70-4894-9E33-49A7C7C6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6F8A7-0AA1-4798-99BA-6EE8559B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79173-9980-4952-9269-D4A36A20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970A-DF5C-44EF-8D1C-2C4654C9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AC8-C30A-44D8-ADAF-693D9C5E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940-00E3-44BF-A16E-29A25E29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0C760-7D4D-4A71-8CDB-6F4439EF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320E4-6EF4-4769-AD3F-14CFA6C2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FA7AD-29A9-47CB-9788-30834478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21024-0823-4EE1-AAA3-929FCEBC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118C-528F-4377-B449-8B7EC3F4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873E0-3B8A-4D79-A5F3-B7760CD7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2AD67-CA6E-4E65-8FC3-6FC73A88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E7D0-AEDE-492F-9FD7-7DA848C9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5FDC5-3136-45AC-A5D7-084FEDF6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56B-82FC-46E9-AD17-813815A7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51A1C-BB2E-43BF-83AF-35E71168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A0475-1FDB-4E63-B46E-443979BF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58D55-924F-41B7-A0B8-C90D6FDE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505-326C-4DCB-849F-49AC9938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80B50-7376-4D97-B54E-605407BC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2E6F7-3981-4C28-A805-EB8EC0D2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C7B36-3E3A-4D89-AAE2-10FE2003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30B5-3E65-4037-9D8E-28EA4F45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0BEFC-987E-4114-A0BA-46740A4C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106-FB02-4437-B0E0-C100FF89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72D5E-4DDC-4D77-9A63-0EAEFD58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74C7E-4408-4E0D-8DDC-E91E018E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6596E-FF25-4C9E-81F8-420E41E5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9072D-D81A-4557-B9CB-4B62EE17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A68F3-240A-43AF-9757-13016706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28147-CD11-454B-A437-C6CD4381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17B8E-A039-4269-873D-FADBD812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B971-1B13-4279-ADEE-21BED7FFA7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EDB1-0B28-4A0A-978D-45093BAEA7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2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2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3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4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91D1-098C-4FEC-8AA6-CB45E8ED2B7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99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e1f0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99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3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E8C0-133C-4BC8-B518-63A9D5E4D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2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5FC8-BE64-4E56-A2DF-43A88B6B02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as Comida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or: Chase Reard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Desayun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6548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el desayuno me gusta co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1523880" y="43434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219320" y="4191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panque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2447640" cy="17064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5486400" y="42274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956840" y="40384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2895480" cy="193860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3"/>
          <a:stretch/>
        </p:blipFill>
        <p:spPr>
          <a:xfrm>
            <a:off x="6496200" y="4343400"/>
            <a:ext cx="2647800" cy="20098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6324480" y="6324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os mol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4"/>
          <a:stretch/>
        </p:blipFill>
        <p:spPr>
          <a:xfrm>
            <a:off x="3657600" y="4572000"/>
            <a:ext cx="2867040" cy="156996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4365720" y="62485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 bei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5"/>
          <a:stretch/>
        </p:blipFill>
        <p:spPr>
          <a:xfrm>
            <a:off x="609480" y="4495680"/>
            <a:ext cx="2667240" cy="170676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1165680" y="62164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l ce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Amuerz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6672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el amuerzo me gu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1973160" cy="198108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5638680" y="24382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5715000" y="4648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 Papas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35040" y="449568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andw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3"/>
          <a:stretch/>
        </p:blipFill>
        <p:spPr>
          <a:xfrm>
            <a:off x="3276720" y="2438280"/>
            <a:ext cx="1788840" cy="20574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3200400" y="4495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erveza no alcohol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4"/>
          <a:stretch/>
        </p:blipFill>
        <p:spPr>
          <a:xfrm>
            <a:off x="609480" y="4800600"/>
            <a:ext cx="1324080" cy="146700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614520" y="617220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nza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5"/>
          <a:stretch/>
        </p:blipFill>
        <p:spPr>
          <a:xfrm>
            <a:off x="2362320" y="5046840"/>
            <a:ext cx="2466720" cy="18111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4800600" y="6019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un ensa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e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024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la cena me gusta co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2057400" cy="161424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52280" y="45720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683880" y="4267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 ste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5791320" y="22860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6477120" y="44197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858000" y="4419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spina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4"/>
          <a:stretch/>
        </p:blipFill>
        <p:spPr>
          <a:xfrm>
            <a:off x="1295280" y="4572000"/>
            <a:ext cx="2667240" cy="17701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447920" y="6477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 hamburgu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5"/>
          <a:stretch/>
        </p:blipFill>
        <p:spPr>
          <a:xfrm>
            <a:off x="4648320" y="4572000"/>
            <a:ext cx="2228760" cy="1674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4857120" y="624852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rley te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68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68" fill="hold"/>
                                        <p:tgtEl>
                                          <p:spTgt spid="7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23:29Z</dcterms:created>
  <dc:creator>reardoncha</dc:creator>
  <dc:description/>
  <dc:language>en-US</dc:language>
  <cp:lastModifiedBy>reardoncha</cp:lastModifiedBy>
  <dcterms:modified xsi:type="dcterms:W3CDTF">2011-04-26T12:51:32Z</dcterms:modified>
  <cp:revision>3</cp:revision>
  <dc:subject/>
  <dc:title>Las Comidas</dc:title>
</cp:coreProperties>
</file>